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BB4-6EA0-44A1-ABA8-13E8C58E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CAA6-F8E6-4F27-8C68-A2B05EE7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772-C916-4F18-8E61-6D1E2767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FA8-F7C8-49DC-B300-3F3AC77D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F4F68-849C-44C4-AAB3-1F7965F9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F571F-43C8-4A6E-8759-703AC67A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BA86B-F130-4F16-961F-A456B61D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0A0FE-1345-4E1A-A5C0-3995DB9A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7DA51-71DB-446A-8D18-3BAEFD1A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674CC-C984-458E-A4A3-A68170FB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D4B84-F23B-4501-B98A-9146D5B9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6268-C6B9-4675-A1D3-62ECA414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E7648-3767-4356-A115-D9A86225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5152C-4E04-4DB7-BFE7-9E54CE6E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066D8-E820-4DD3-B8E2-1C6B8AD7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A3E15-DF8F-489C-A1C2-02FD394E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5876F-0085-4DE2-8CB8-AE840BC0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58156-06F2-4E08-BF9F-A7F84E6E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E608E-46E2-4705-BB73-D8C8321D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E4C8E-DD55-4383-AB25-BEB28A91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2D7AD-DA9C-434F-911C-8C899277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218E7-AB85-48F2-952B-5EE72882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334-5101-48CE-AFFA-F8BBEC60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74920-38CD-4114-B972-17394117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0456E-6766-40D7-9E97-C0FF4F2C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DB721-7FB8-4A63-AD3D-4918EC60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A0318-7C8E-493F-9A38-06489B0F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24402-518D-4E7D-A92B-E9CD4891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F5D02-531A-438E-8AEB-13819F18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C35FD-B563-4022-936C-244475AA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653AF1-4241-4A79-A852-77D424E1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CCA232-3A43-45E8-BE3F-F413A4DB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24F586-A1B5-4E17-9540-536008FB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C03-6585-42B1-9587-339DA9BA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A9A338-43A0-4E00-8199-09FDF87F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DA41FE-B3A7-4F9C-BFA5-CBC1CFB1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18311D-5453-4B07-BABB-A2BC2F17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06FC91-87E0-46E1-A0CC-8CE02FAE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142AB8-A028-441B-86CD-746C6A0A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43CBB9-BD07-458E-B6DF-367667D8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B8A1D6-F6F8-4662-B667-FDA87E4F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7B8D7D-82ED-4B78-896E-B65C585E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A2069F-C5CF-4C8E-82E5-9EC5B910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B49-0593-4D04-86E7-41EFF1EB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CEF-D0CF-4508-8A7C-11F19F06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9AB-7BC1-416B-9D47-C61E8B24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DFF-2B8D-4807-9B2C-B367A10F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EFE4-5AB0-4DD7-9D83-2B1F49FE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6876-12D0-44C5-B4C7-DD0D1855C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EA2C-05C9-47FB-A037-8751422FE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5158-BA80-49FB-A6F5-895AB4C308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D2DC-9FCA-49A7-988E-3E3D6023E8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s comid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85800" y="10896480"/>
          <a:ext cx="34290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0896480"/>
                    <a:ext cx="3429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648320" y="2133720"/>
            <a:ext cx="3047760" cy="27432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094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1447920"/>
            <a:ext cx="3124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1219320" y="1752480"/>
            <a:ext cx="7010280" cy="3716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80880" y="21337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56386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r michael tor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desayun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-1143000" y="9677520"/>
            <a:ext cx="5562720" cy="2209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52280" y="2743200"/>
            <a:ext cx="2438640" cy="2057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2666880" y="2666880"/>
            <a:ext cx="2590920" cy="2133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 flipH="1">
            <a:off x="5790600" y="9524880"/>
            <a:ext cx="18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rf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5029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f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5105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nque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5334120" y="2666880"/>
            <a:ext cx="1523880" cy="2057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33412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nue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6934320" y="2743200"/>
            <a:ext cx="1904760" cy="1981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16292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c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3809880" y="28576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6705720" y="5334120"/>
            <a:ext cx="2438280" cy="1523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590920" y="64008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 le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68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68" fill="hold"/>
                                        <p:tgtEl>
                                          <p:spTgt spid="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26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l almuerzo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-360" y="5562720"/>
            <a:ext cx="3048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as fri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1925640" cy="2857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819520" y="3124080"/>
            <a:ext cx="2133360" cy="2309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971800" y="57150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utas ensal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5181480" y="3276720"/>
            <a:ext cx="1676520" cy="2057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410080" y="5715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ros de cebo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6858000" y="3505320"/>
            <a:ext cx="2157480" cy="1619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620120" y="55627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rro ca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6934320" y="1905120"/>
            <a:ext cx="2055600" cy="1143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800600" y="2514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ca 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La cen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2667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o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s de po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o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216160" cy="2209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248520" y="2590920"/>
            <a:ext cx="2762280" cy="1719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6400800" y="4495680"/>
            <a:ext cx="2590920" cy="2219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4648320" y="3962520"/>
            <a:ext cx="1144440" cy="251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1:51Z</dcterms:created>
  <dc:creator>tortimic</dc:creator>
  <dc:description/>
  <dc:language>en-US</dc:language>
  <cp:lastModifiedBy>tortimic</cp:lastModifiedBy>
  <dcterms:modified xsi:type="dcterms:W3CDTF">2011-04-14T15:03:25Z</dcterms:modified>
  <cp:revision>4</cp:revision>
  <dc:subject/>
  <dc:title>Las comidas</dc:title>
</cp:coreProperties>
</file>